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143000" y="825120"/>
            <a:ext cx="107186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1143000" y="825120"/>
            <a:ext cx="107186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1143000" y="825120"/>
            <a:ext cx="107186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1143000" y="825120"/>
            <a:ext cx="107186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43000" y="825120"/>
            <a:ext cx="107186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143000" y="825120"/>
            <a:ext cx="107186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143000" y="825120"/>
            <a:ext cx="107186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143000" y="825120"/>
            <a:ext cx="107186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825120"/>
            <a:ext cx="107186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143000" y="825120"/>
            <a:ext cx="107186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143000" y="825120"/>
            <a:ext cx="107186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1143000" y="825120"/>
            <a:ext cx="107186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12395160" cy="9105840"/>
            <a:chOff x="0" y="0"/>
            <a:chExt cx="12395160" cy="9105840"/>
          </a:xfrm>
        </p:grpSpPr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>
              <a:off x="10096560" y="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sp>
          <p:nvSpPr>
            <p:cNvPr id="4" name=""/>
            <p:cNvSpPr/>
            <p:nvPr/>
          </p:nvSpPr>
          <p:spPr>
            <a:xfrm>
              <a:off x="12395160" y="1841400"/>
              <a:ext cx="0" cy="60303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5"/>
            <a:stretch/>
          </p:blipFill>
          <p:spPr>
            <a:xfrm>
              <a:off x="0" y="67438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pic>
          <p:nvPicPr>
            <p:cNvPr id="6" name="" descr=""/>
            <p:cNvPicPr/>
            <p:nvPr/>
          </p:nvPicPr>
          <p:blipFill>
            <a:blip r:embed="rId6"/>
            <a:stretch/>
          </p:blipFill>
          <p:spPr>
            <a:xfrm>
              <a:off x="10096560" y="67438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sp>
          <p:nvSpPr>
            <p:cNvPr id="7" name=""/>
            <p:cNvSpPr/>
            <p:nvPr/>
          </p:nvSpPr>
          <p:spPr>
            <a:xfrm>
              <a:off x="1790640" y="91058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08040" y="1855440"/>
              <a:ext cx="0" cy="60195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90640" y="59688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</p:grp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>
              <a:spcBef>
                <a:spcPts val="901"/>
              </a:spcBef>
              <a:buClr>
                <a:srgbClr val="674b23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>
              <a:spcBef>
                <a:spcPts val="901"/>
              </a:spcBef>
              <a:buClr>
                <a:srgbClr val="674b23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1143000" y="825120"/>
            <a:ext cx="10718640" cy="810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1" marL="965160" indent="-57132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2" marL="1409760" indent="-57168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3" marL="1854360" indent="-57168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4" marL="2298600" indent="-57132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5" marL="2298600" indent="-57132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6" marL="2298600" indent="-57132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0" y="0"/>
            <a:ext cx="12395160" cy="9117000"/>
            <a:chOff x="0" y="0"/>
            <a:chExt cx="12395160" cy="9117000"/>
          </a:xfrm>
        </p:grpSpPr>
        <p:sp>
          <p:nvSpPr>
            <p:cNvPr id="435" name=""/>
            <p:cNvSpPr/>
            <p:nvPr/>
          </p:nvSpPr>
          <p:spPr>
            <a:xfrm>
              <a:off x="609840" y="59688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pic>
          <p:nvPicPr>
            <p:cNvPr id="436" name="" descr=""/>
            <p:cNvPicPr/>
            <p:nvPr/>
          </p:nvPicPr>
          <p:blipFill>
            <a:blip r:embed="rId3"/>
            <a:stretch/>
          </p:blipFill>
          <p:spPr>
            <a:xfrm>
              <a:off x="11887200" y="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" descr=""/>
            <p:cNvPicPr/>
            <p:nvPr/>
          </p:nvPicPr>
          <p:blipFill>
            <a:blip r:embed="rId5"/>
            <a:stretch/>
          </p:blipFill>
          <p:spPr>
            <a:xfrm>
              <a:off x="11887200" y="8597880"/>
              <a:ext cx="127080" cy="127080"/>
            </a:xfrm>
            <a:prstGeom prst="rect">
              <a:avLst/>
            </a:prstGeom>
            <a:ln w="0">
              <a:noFill/>
            </a:ln>
            <a:effectLst>
              <a:outerShdw dist="12600" dir="5400000" blurRad="0" rotWithShape="0">
                <a:srgbClr val="c6be96">
                  <a:alpha val="50000"/>
                </a:srgbClr>
              </a:outerShdw>
            </a:effectLst>
          </p:spPr>
        </p:pic>
        <p:pic>
          <p:nvPicPr>
            <p:cNvPr id="439" name="" descr=""/>
            <p:cNvPicPr/>
            <p:nvPr/>
          </p:nvPicPr>
          <p:blipFill>
            <a:blip r:embed="rId6"/>
            <a:stretch/>
          </p:blipFill>
          <p:spPr>
            <a:xfrm>
              <a:off x="0" y="859788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609840" y="910584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395160" y="596880"/>
              <a:ext cx="0" cy="852012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08040" y="595440"/>
              <a:ext cx="0" cy="85104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0" y="0"/>
            <a:ext cx="12395160" cy="9117000"/>
            <a:chOff x="0" y="0"/>
            <a:chExt cx="12395160" cy="9117000"/>
          </a:xfrm>
        </p:grpSpPr>
        <p:sp>
          <p:nvSpPr>
            <p:cNvPr id="480" name=""/>
            <p:cNvSpPr/>
            <p:nvPr/>
          </p:nvSpPr>
          <p:spPr>
            <a:xfrm>
              <a:off x="609840" y="59688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pic>
          <p:nvPicPr>
            <p:cNvPr id="481" name="" descr=""/>
            <p:cNvPicPr/>
            <p:nvPr/>
          </p:nvPicPr>
          <p:blipFill>
            <a:blip r:embed="rId3"/>
            <a:stretch/>
          </p:blipFill>
          <p:spPr>
            <a:xfrm>
              <a:off x="11887200" y="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" descr=""/>
            <p:cNvPicPr/>
            <p:nvPr/>
          </p:nvPicPr>
          <p:blipFill>
            <a:blip r:embed="rId5"/>
            <a:stretch/>
          </p:blipFill>
          <p:spPr>
            <a:xfrm>
              <a:off x="11887200" y="8597880"/>
              <a:ext cx="127080" cy="127080"/>
            </a:xfrm>
            <a:prstGeom prst="rect">
              <a:avLst/>
            </a:prstGeom>
            <a:ln w="0">
              <a:noFill/>
            </a:ln>
            <a:effectLst>
              <a:outerShdw dist="12600" dir="5400000" blurRad="0" rotWithShape="0">
                <a:srgbClr val="c6be96">
                  <a:alpha val="50000"/>
                </a:srgbClr>
              </a:outerShdw>
            </a:effectLst>
          </p:spPr>
        </p:pic>
        <p:pic>
          <p:nvPicPr>
            <p:cNvPr id="484" name="" descr=""/>
            <p:cNvPicPr/>
            <p:nvPr/>
          </p:nvPicPr>
          <p:blipFill>
            <a:blip r:embed="rId6"/>
            <a:stretch/>
          </p:blipFill>
          <p:spPr>
            <a:xfrm>
              <a:off x="0" y="859788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609840" y="910584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395160" y="596880"/>
              <a:ext cx="0" cy="852012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8040" y="595440"/>
              <a:ext cx="0" cy="85104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1143000" y="2882880"/>
            <a:ext cx="1071864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565920" indent="-56592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95544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395360" indent="-56592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835640" indent="-56592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227556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227556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227556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0" y="0"/>
            <a:ext cx="12408120" cy="9118800"/>
            <a:chOff x="0" y="0"/>
            <a:chExt cx="12408120" cy="9118800"/>
          </a:xfrm>
        </p:grpSpPr>
        <p:pic>
          <p:nvPicPr>
            <p:cNvPr id="527" name="" descr=""/>
            <p:cNvPicPr/>
            <p:nvPr/>
          </p:nvPicPr>
          <p:blipFill>
            <a:blip r:embed="rId3"/>
            <a:stretch/>
          </p:blipFill>
          <p:spPr>
            <a:xfrm>
              <a:off x="11887200" y="85215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" descr=""/>
            <p:cNvPicPr/>
            <p:nvPr/>
          </p:nvPicPr>
          <p:blipFill>
            <a:blip r:embed="rId4"/>
            <a:stretch/>
          </p:blipFill>
          <p:spPr>
            <a:xfrm>
              <a:off x="10185480" y="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pic>
          <p:nvPicPr>
            <p:cNvPr id="529" name="" descr=""/>
            <p:cNvPicPr/>
            <p:nvPr/>
          </p:nvPicPr>
          <p:blipFill>
            <a:blip r:embed="rId5"/>
            <a:stretch/>
          </p:blipFill>
          <p:spPr>
            <a:xfrm>
              <a:off x="88920" y="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pic>
          <p:nvPicPr>
            <p:cNvPr id="530" name="" descr=""/>
            <p:cNvPicPr/>
            <p:nvPr/>
          </p:nvPicPr>
          <p:blipFill>
            <a:blip r:embed="rId6"/>
            <a:stretch/>
          </p:blipFill>
          <p:spPr>
            <a:xfrm>
              <a:off x="0" y="85215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895800"/>
            <a:ext cx="1071864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143000" y="8102520"/>
            <a:ext cx="10718640" cy="609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0"/>
            <a:ext cx="12395160" cy="9105840"/>
            <a:chOff x="0" y="0"/>
            <a:chExt cx="12395160" cy="9105840"/>
          </a:xfrm>
        </p:grpSpPr>
        <p:sp>
          <p:nvSpPr>
            <p:cNvPr id="50" name=""/>
            <p:cNvSpPr/>
            <p:nvPr/>
          </p:nvSpPr>
          <p:spPr>
            <a:xfrm>
              <a:off x="609840" y="651492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395160" y="6527880"/>
              <a:ext cx="0" cy="25761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11887200" y="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5"/>
            <a:stretch/>
          </p:blipFill>
          <p:spPr>
            <a:xfrm>
              <a:off x="11887200" y="2679840"/>
              <a:ext cx="127080" cy="1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6"/>
            <a:stretch/>
          </p:blipFill>
          <p:spPr>
            <a:xfrm>
              <a:off x="0" y="2679840"/>
              <a:ext cx="12708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609840" y="910584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8040" y="6527880"/>
              <a:ext cx="0" cy="25779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3060720"/>
            <a:ext cx="510552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143000" y="5397120"/>
            <a:ext cx="5105520" cy="142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4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0" y="0"/>
            <a:ext cx="12395160" cy="9117000"/>
            <a:chOff x="0" y="0"/>
            <a:chExt cx="12395160" cy="9117000"/>
          </a:xfrm>
        </p:grpSpPr>
        <p:sp>
          <p:nvSpPr>
            <p:cNvPr id="97" name=""/>
            <p:cNvSpPr/>
            <p:nvPr/>
          </p:nvSpPr>
          <p:spPr>
            <a:xfrm>
              <a:off x="609840" y="59688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11887200" y="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5"/>
            <a:stretch/>
          </p:blipFill>
          <p:spPr>
            <a:xfrm>
              <a:off x="11887200" y="8597880"/>
              <a:ext cx="127080" cy="127080"/>
            </a:xfrm>
            <a:prstGeom prst="rect">
              <a:avLst/>
            </a:prstGeom>
            <a:ln w="0">
              <a:noFill/>
            </a:ln>
            <a:effectLst>
              <a:outerShdw dist="12600" dir="5400000" blurRad="0" rotWithShape="0">
                <a:srgbClr val="c6be96">
                  <a:alpha val="50000"/>
                </a:srgbClr>
              </a:outerShdw>
            </a:effectLst>
          </p:spPr>
        </p:pic>
        <p:pic>
          <p:nvPicPr>
            <p:cNvPr id="101" name="" descr=""/>
            <p:cNvPicPr/>
            <p:nvPr/>
          </p:nvPicPr>
          <p:blipFill>
            <a:blip r:embed="rId6"/>
            <a:stretch/>
          </p:blipFill>
          <p:spPr>
            <a:xfrm>
              <a:off x="0" y="859788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09840" y="910584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395160" y="596880"/>
              <a:ext cx="0" cy="852012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8040" y="595440"/>
              <a:ext cx="0" cy="85104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0"/>
            <a:ext cx="12408120" cy="9118800"/>
            <a:chOff x="0" y="0"/>
            <a:chExt cx="12408120" cy="9118800"/>
          </a:xfrm>
        </p:grpSpPr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11887200" y="85215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4"/>
            <a:stretch/>
          </p:blipFill>
          <p:spPr>
            <a:xfrm>
              <a:off x="10185480" y="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pic>
          <p:nvPicPr>
            <p:cNvPr id="145" name="" descr=""/>
            <p:cNvPicPr/>
            <p:nvPr/>
          </p:nvPicPr>
          <p:blipFill>
            <a:blip r:embed="rId5"/>
            <a:stretch/>
          </p:blipFill>
          <p:spPr>
            <a:xfrm>
              <a:off x="88920" y="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pic>
          <p:nvPicPr>
            <p:cNvPr id="146" name="" descr=""/>
            <p:cNvPicPr/>
            <p:nvPr/>
          </p:nvPicPr>
          <p:blipFill>
            <a:blip r:embed="rId6"/>
            <a:stretch/>
          </p:blipFill>
          <p:spPr>
            <a:xfrm>
              <a:off x="0" y="85215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</p:grp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-5716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1015920" indent="-57132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460520" indent="-5716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905120" indent="-5716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2349360" indent="-57132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2349360" indent="-571320">
              <a:spcBef>
                <a:spcPts val="9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2349360" indent="-571320">
              <a:spcBef>
                <a:spcPts val="9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143000" y="2882880"/>
            <a:ext cx="510552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4514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76212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11348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4648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0"/>
            <a:ext cx="12408120" cy="9118800"/>
            <a:chOff x="0" y="0"/>
            <a:chExt cx="12408120" cy="91188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11887200" y="85215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10185480" y="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pic>
          <p:nvPicPr>
            <p:cNvPr id="195" name="" descr=""/>
            <p:cNvPicPr/>
            <p:nvPr/>
          </p:nvPicPr>
          <p:blipFill>
            <a:blip r:embed="rId5"/>
            <a:stretch/>
          </p:blipFill>
          <p:spPr>
            <a:xfrm>
              <a:off x="88920" y="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pic>
          <p:nvPicPr>
            <p:cNvPr id="196" name="" descr=""/>
            <p:cNvPicPr/>
            <p:nvPr/>
          </p:nvPicPr>
          <p:blipFill>
            <a:blip r:embed="rId6"/>
            <a:stretch/>
          </p:blipFill>
          <p:spPr>
            <a:xfrm>
              <a:off x="0" y="85215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0" y="0"/>
            <a:ext cx="12395160" cy="9105840"/>
            <a:chOff x="0" y="0"/>
            <a:chExt cx="12395160" cy="9105840"/>
          </a:xfrm>
        </p:grpSpPr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10096560" y="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sp>
          <p:nvSpPr>
            <p:cNvPr id="244" name=""/>
            <p:cNvSpPr/>
            <p:nvPr/>
          </p:nvSpPr>
          <p:spPr>
            <a:xfrm>
              <a:off x="12395160" y="1841400"/>
              <a:ext cx="0" cy="60303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5"/>
            <a:stretch/>
          </p:blipFill>
          <p:spPr>
            <a:xfrm>
              <a:off x="0" y="67438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pic>
          <p:nvPicPr>
            <p:cNvPr id="246" name="" descr=""/>
            <p:cNvPicPr/>
            <p:nvPr/>
          </p:nvPicPr>
          <p:blipFill>
            <a:blip r:embed="rId6"/>
            <a:stretch/>
          </p:blipFill>
          <p:spPr>
            <a:xfrm>
              <a:off x="10096560" y="67438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sp>
          <p:nvSpPr>
            <p:cNvPr id="247" name=""/>
            <p:cNvSpPr/>
            <p:nvPr/>
          </p:nvSpPr>
          <p:spPr>
            <a:xfrm>
              <a:off x="1790640" y="91058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8040" y="1855440"/>
              <a:ext cx="0" cy="60195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90640" y="59688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143000" y="2882880"/>
            <a:ext cx="1071864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565920" indent="-56592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95544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395360" indent="-56592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835640" indent="-56592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227556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227556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227556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0" y="0"/>
            <a:ext cx="12408120" cy="9118800"/>
            <a:chOff x="0" y="0"/>
            <a:chExt cx="12408120" cy="9118800"/>
          </a:xfrm>
        </p:grpSpPr>
        <p:pic>
          <p:nvPicPr>
            <p:cNvPr id="289" name="" descr=""/>
            <p:cNvPicPr/>
            <p:nvPr/>
          </p:nvPicPr>
          <p:blipFill>
            <a:blip r:embed="rId3"/>
            <a:stretch/>
          </p:blipFill>
          <p:spPr>
            <a:xfrm>
              <a:off x="11887200" y="85215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4"/>
            <a:stretch/>
          </p:blipFill>
          <p:spPr>
            <a:xfrm>
              <a:off x="10185480" y="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pic>
          <p:nvPicPr>
            <p:cNvPr id="291" name="" descr=""/>
            <p:cNvPicPr/>
            <p:nvPr/>
          </p:nvPicPr>
          <p:blipFill>
            <a:blip r:embed="rId5"/>
            <a:stretch/>
          </p:blipFill>
          <p:spPr>
            <a:xfrm>
              <a:off x="88920" y="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pic>
          <p:nvPicPr>
            <p:cNvPr id="292" name="" descr=""/>
            <p:cNvPicPr/>
            <p:nvPr/>
          </p:nvPicPr>
          <p:blipFill>
            <a:blip r:embed="rId6"/>
            <a:stretch/>
          </p:blipFill>
          <p:spPr>
            <a:xfrm>
              <a:off x="0" y="85215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56120" y="2882880"/>
            <a:ext cx="510516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4514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76212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11348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4648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0" y="0"/>
            <a:ext cx="12408120" cy="9118800"/>
            <a:chOff x="0" y="0"/>
            <a:chExt cx="12408120" cy="9118800"/>
          </a:xfrm>
        </p:grpSpPr>
        <p:pic>
          <p:nvPicPr>
            <p:cNvPr id="338" name="" descr=""/>
            <p:cNvPicPr/>
            <p:nvPr/>
          </p:nvPicPr>
          <p:blipFill>
            <a:blip r:embed="rId3"/>
            <a:stretch/>
          </p:blipFill>
          <p:spPr>
            <a:xfrm>
              <a:off x="11887200" y="85215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4"/>
            <a:stretch/>
          </p:blipFill>
          <p:spPr>
            <a:xfrm>
              <a:off x="10185480" y="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pic>
          <p:nvPicPr>
            <p:cNvPr id="340" name="" descr=""/>
            <p:cNvPicPr/>
            <p:nvPr/>
          </p:nvPicPr>
          <p:blipFill>
            <a:blip r:embed="rId5"/>
            <a:stretch/>
          </p:blipFill>
          <p:spPr>
            <a:xfrm>
              <a:off x="88920" y="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pic>
          <p:nvPicPr>
            <p:cNvPr id="341" name="" descr=""/>
            <p:cNvPicPr/>
            <p:nvPr/>
          </p:nvPicPr>
          <p:blipFill>
            <a:blip r:embed="rId6"/>
            <a:stretch/>
          </p:blipFill>
          <p:spPr>
            <a:xfrm>
              <a:off x="0" y="85215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143000" y="2882880"/>
            <a:ext cx="510552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4514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76212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11348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4648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0" y="0"/>
            <a:ext cx="12408120" cy="9118800"/>
            <a:chOff x="0" y="0"/>
            <a:chExt cx="12408120" cy="9118800"/>
          </a:xfrm>
        </p:grpSpPr>
        <p:pic>
          <p:nvPicPr>
            <p:cNvPr id="387" name="" descr=""/>
            <p:cNvPicPr/>
            <p:nvPr/>
          </p:nvPicPr>
          <p:blipFill>
            <a:blip r:embed="rId3"/>
            <a:stretch/>
          </p:blipFill>
          <p:spPr>
            <a:xfrm>
              <a:off x="11887200" y="85215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" descr=""/>
            <p:cNvPicPr/>
            <p:nvPr/>
          </p:nvPicPr>
          <p:blipFill>
            <a:blip r:embed="rId4"/>
            <a:stretch/>
          </p:blipFill>
          <p:spPr>
            <a:xfrm>
              <a:off x="10185480" y="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pic>
          <p:nvPicPr>
            <p:cNvPr id="389" name="" descr=""/>
            <p:cNvPicPr/>
            <p:nvPr/>
          </p:nvPicPr>
          <p:blipFill>
            <a:blip r:embed="rId5"/>
            <a:stretch/>
          </p:blipFill>
          <p:spPr>
            <a:xfrm>
              <a:off x="88920" y="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pic>
          <p:nvPicPr>
            <p:cNvPr id="390" name="" descr=""/>
            <p:cNvPicPr/>
            <p:nvPr/>
          </p:nvPicPr>
          <p:blipFill>
            <a:blip r:embed="rId6"/>
            <a:stretch/>
          </p:blipFill>
          <p:spPr>
            <a:xfrm>
              <a:off x="0" y="85215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DISPARITY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74" name=""/>
          <p:cNvSpPr/>
          <p:nvPr/>
        </p:nvSpPr>
        <p:spPr>
          <a:xfrm>
            <a:off x="1844280" y="6290280"/>
            <a:ext cx="98578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200" spc="-1" strike="noStrike">
                <a:solidFill>
                  <a:srgbClr val="674b23"/>
                </a:solidFill>
                <a:latin typeface="Baskerville"/>
                <a:ea typeface="Baskerville"/>
              </a:rPr>
              <a:t>Lack of similarity or equality</a:t>
            </a:r>
            <a:endParaRPr b="0" lang="en-US" sz="62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12420720" cy="552456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2184120" y="6578280"/>
            <a:ext cx="7289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Integration of the entire world through a network of  communication, transportation, and trade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"/>
          <p:cNvGrpSpPr/>
          <p:nvPr/>
        </p:nvGrpSpPr>
        <p:grpSpPr>
          <a:xfrm>
            <a:off x="0" y="0"/>
            <a:ext cx="5283360" cy="5943600"/>
            <a:chOff x="0" y="0"/>
            <a:chExt cx="5283360" cy="59436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rcRect l="0" t="9946" r="0" b="9950"/>
            <a:stretch/>
          </p:blipFill>
          <p:spPr>
            <a:xfrm>
              <a:off x="203040" y="216000"/>
              <a:ext cx="4876920" cy="552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5283360" cy="594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43000" y="3060720"/>
            <a:ext cx="510552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GDP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143000" y="5397120"/>
            <a:ext cx="5105520" cy="273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e total market value of all goods and services produced in a country in a given year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692280" y="1419120"/>
            <a:ext cx="12128400" cy="541044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3000" y="6895800"/>
            <a:ext cx="1071864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Adult Literacy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653920" y="7899480"/>
            <a:ext cx="7327800" cy="121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e ability of grown human beings to be able to read and write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Infant Mortality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86" name=""/>
          <p:cNvSpPr/>
          <p:nvPr/>
        </p:nvSpPr>
        <p:spPr>
          <a:xfrm>
            <a:off x="2807280" y="3046320"/>
            <a:ext cx="6864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74b23"/>
                </a:solidFill>
                <a:latin typeface="Baskerville"/>
                <a:ea typeface="Baskerville"/>
              </a:rPr>
              <a:t>Death of an infant before age one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5526000" y="3683160"/>
            <a:ext cx="7345440" cy="449568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3"/>
          <a:stretch/>
        </p:blipFill>
        <p:spPr>
          <a:xfrm>
            <a:off x="901800" y="3551400"/>
            <a:ext cx="4584600" cy="33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Natural Resources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60240" y="1206000"/>
            <a:ext cx="5105520" cy="604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A material source of wealth such as timber, fresh water, or mineral deposits that occur in the environmen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3"/>
          <a:stretch/>
        </p:blipFill>
        <p:spPr>
          <a:xfrm>
            <a:off x="6070680" y="2590920"/>
            <a:ext cx="5968800" cy="4140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4"/>
          <a:stretch/>
        </p:blipFill>
        <p:spPr>
          <a:xfrm>
            <a:off x="2184480" y="5675400"/>
            <a:ext cx="3848040" cy="353196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5"/>
          <a:stretch/>
        </p:blipFill>
        <p:spPr>
          <a:xfrm>
            <a:off x="6066000" y="6553080"/>
            <a:ext cx="405576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291960" y="317520"/>
            <a:ext cx="12420720" cy="552456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43000" y="6260760"/>
            <a:ext cx="1071864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Universal primary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397160" y="6921000"/>
            <a:ext cx="107186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674b23"/>
                </a:solidFill>
                <a:latin typeface="Baskerville"/>
              </a:rPr>
              <a:t>Education</a:t>
            </a:r>
            <a:endParaRPr b="0" lang="en-US" sz="7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97" name=""/>
          <p:cNvSpPr/>
          <p:nvPr/>
        </p:nvSpPr>
        <p:spPr>
          <a:xfrm>
            <a:off x="582480" y="7893000"/>
            <a:ext cx="1233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74b23"/>
                </a:solidFill>
                <a:latin typeface="Baskerville"/>
                <a:ea typeface="Baskerville"/>
              </a:rPr>
              <a:t>To ensure that by 2015, all children everywhere go to school until at least grade 4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Life Expectancy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99" name=""/>
          <p:cNvSpPr/>
          <p:nvPr/>
        </p:nvSpPr>
        <p:spPr>
          <a:xfrm>
            <a:off x="4680" y="2475000"/>
            <a:ext cx="1219104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674b23"/>
                </a:solidFill>
                <a:latin typeface="Baskerville"/>
                <a:ea typeface="Baskerville"/>
              </a:rPr>
              <a:t>The assumed number of years of life in an area</a:t>
            </a:r>
            <a:endParaRPr b="0" lang="en-US" sz="4600" spc="-1" strike="noStrike">
              <a:solidFill>
                <a:srgbClr val="674b23"/>
              </a:solidFill>
              <a:latin typeface="Baskerville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390680" y="3975120"/>
            <a:ext cx="9410760" cy="4370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